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9156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7548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90800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29156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7548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908000" y="-60480"/>
            <a:ext cx="705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9156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7548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90800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29156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7548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908000" y="-60480"/>
            <a:ext cx="705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9156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7548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90800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29156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7548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908000" y="-60480"/>
            <a:ext cx="705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9156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7548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90800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29156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7548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A2EC-5957-431A-977E-14A7342B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3D24-3B4D-4B27-B78C-D77BE17A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E3E-611F-405D-B645-1451ACF7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6339-D8A6-4E2A-9EA1-261A451C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C55-FC63-45D0-A431-E52D5407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908000" y="-60480"/>
            <a:ext cx="705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BC5-2086-4C3E-AB78-CEB4BF5B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1B6-A9BF-48C5-9815-21A01070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8CB-0733-417B-B733-77807A7A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C1C-DBD1-48AF-AFEE-4A9140E1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622-508B-4EF7-8015-565E8C10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69D9-2E88-44A3-9D15-19AF9F16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908000" y="-60480"/>
            <a:ext cx="705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9156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67548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90800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29156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67548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271D-1E4D-4FFD-B1E4-93084241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DE97-BCF1-4FD4-9D1B-4371B37A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1709-9DEF-430E-A59C-507B255D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077B-BE36-4144-836F-8E4D3643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0C51-10E6-4F04-A271-B4EBE029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119E-1132-4017-A8DA-41D8EAE6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908000" y="-60480"/>
            <a:ext cx="705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7A0D-6C31-43F1-97C0-746C397C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89AE-2F98-4D30-9647-D9694AF2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7B81-9DB2-4813-BC13-1DF70613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5861-8A8F-4D24-9C79-1E472A35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A54D-423F-479E-BC13-CA7F40D0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8786-6244-492B-8B9E-EEA257EB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9156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675480" y="14842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90800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29156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675480" y="3847680"/>
            <a:ext cx="2269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4612-2C43-4687-B35C-809D6ED4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520600" y="38476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20600" y="1484280"/>
            <a:ext cx="3440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908000" y="3847680"/>
            <a:ext cx="705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8000" y="-60480"/>
            <a:ext cx="705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908000" y="1484280"/>
            <a:ext cx="705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360EFED-F3CC-45B2-91D5-FC067FAFD12A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507ED5-CB48-4906-AA12-F35BE1B2431D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bip.um.walbrzych.pl/" TargetMode="External"/><Relationship Id="rId3" Type="http://schemas.openxmlformats.org/officeDocument/2006/relationships/hyperlink" Target="http://www.mos.gov.pl/" TargetMode="External"/><Relationship Id="rId4" Type="http://schemas.openxmlformats.org/officeDocument/2006/relationships/hyperlink" Target="http://www.naszesmieci.mos.gov.pl/" TargetMode="External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28680" y="1665360"/>
            <a:ext cx="70516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SYSTEM GOSPODARKI ODPADAMI KOMUNALNYMI MIASTA WAŁBRZYCH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1 LIPCA 2013 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racował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na Kazek - Wyrwa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8000" y="115920"/>
            <a:ext cx="705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19280" y="1260360"/>
            <a:ext cx="7056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 algn="ctr">
              <a:lnSpc>
                <a:spcPct val="100000"/>
              </a:lnSpc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ctr">
              <a:lnSpc>
                <a:spcPct val="100000"/>
              </a:lnSpc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ctr">
              <a:lnSpc>
                <a:spcPct val="100000"/>
              </a:lnSpc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43280" y="0"/>
            <a:ext cx="705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9640" y="1440000"/>
            <a:ext cx="93600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14480" algn="ctr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1440000"/>
            <a:ext cx="93600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14480" algn="ctr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19280" y="1440000"/>
            <a:ext cx="755964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318600"/>
                <a:tab algn="l" pos="9767880"/>
                <a:tab algn="l" pos="10217160"/>
                <a:tab algn="l" pos="10666440"/>
                <a:tab algn="l" pos="1078236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1" i="1" lang="pl-PL" sz="24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Gmina zapew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318600"/>
                <a:tab algn="l" pos="9767880"/>
                <a:tab algn="l" pos="10217160"/>
                <a:tab algn="l" pos="1066644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318600"/>
                <a:tab algn="l" pos="9767880"/>
                <a:tab algn="l" pos="10217160"/>
                <a:tab algn="l" pos="1066644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biór odpadów komunalnych od właścicieli nieruchomości objętych systemem,                            (tj. z nieruchomości zamieszkałych i „mieszanych”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318600"/>
                <a:tab algn="l" pos="9767880"/>
                <a:tab algn="l" pos="10217160"/>
                <a:tab algn="l" pos="1066644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funkcjonowanie punktów selektywnej zbiórki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odpadów komunalnych,tzw. PSZ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318600"/>
                <a:tab algn="l" pos="9767880"/>
                <a:tab algn="l" pos="10217160"/>
                <a:tab algn="l" pos="1066644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właściwe zagospodarowanie odpadów            (RIPOK lub IZ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318600"/>
                <a:tab algn="l" pos="9767880"/>
                <a:tab algn="l" pos="10217160"/>
                <a:tab algn="l" pos="1066644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adzór nad przepływem strumienia odpadów             komunalny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318600"/>
                <a:tab algn="l" pos="9767880"/>
                <a:tab algn="l" pos="10217160"/>
                <a:tab algn="l" pos="1066644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formację dotyczącą funkcjonowania system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318600"/>
                <a:tab algn="l" pos="9767880"/>
                <a:tab algn="l" pos="10217160"/>
                <a:tab algn="l" pos="10666440"/>
                <a:tab algn="l" pos="10782360"/>
              </a:tabLst>
            </a:pPr>
            <a:r>
              <a:rPr b="0" i="1" lang="pl-PL" sz="2400" spc="-1" strike="noStrike">
                <a:solidFill>
                  <a:srgbClr val="ff3366"/>
                </a:solidFill>
                <a:latin typeface="Arial"/>
                <a:ea typeface="Lucida Sans Unicode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dukację w zakresie prawidłowego 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postępowania z odpad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318600"/>
                <a:tab algn="l" pos="9767880"/>
                <a:tab algn="l" pos="1021716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318600"/>
                <a:tab algn="l" pos="9767880"/>
                <a:tab algn="l" pos="1021716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318600"/>
                <a:tab algn="l" pos="9767880"/>
                <a:tab algn="l" pos="1021716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08000" y="115920"/>
            <a:ext cx="705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DSTAWOWE OBOWIĄZKI GM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908000" y="115920"/>
            <a:ext cx="705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66920" y="1619280"/>
            <a:ext cx="7632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43280" y="179280"/>
            <a:ext cx="705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LETY NOWEGO SYSTE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40000" y="946080"/>
            <a:ext cx="719928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227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    </a:t>
            </a:r>
            <a:r>
              <a:rPr b="1" i="1" lang="pl-PL" sz="1800" spc="-1" strike="noStrike" u="sng">
                <a:solidFill>
                  <a:srgbClr val="ff0000"/>
                </a:solidFill>
                <a:uFillTx/>
                <a:latin typeface="Arial"/>
                <a:ea typeface="Lucida Sans Unicode"/>
              </a:rPr>
              <a:t>ZALE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biór wszystkich odpadów od właścicieli nieruchomości za tę samą opłatę (tzw. „opłatę śmieciową”), </a:t>
            </a:r>
            <a:r>
              <a:rPr b="1" i="1" lang="pl-PL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wyjątek: niższe opłaty dla osób segregujących odpad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rak konieczności zawierania indywidualnych umów z firmą zajmującą się wywozem odpadów – umowę na odbiór odpadów zawrze gmina z przedsiębiorcą wyłonionym          w drodze przetargu (wyjątek będą stanowiły nieruchomości niezamieszkałe, które nie zostaną objęte systemem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zejrzyste zasady funkcjonowania system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iminacja praktyk nielegalnego pozbywania się odpadów, poprawa stanu środowis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908000" y="115920"/>
            <a:ext cx="705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OBOWIĄZKI WŁAŚCICIELI NIERUCHOMOŚ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OBJĘTYCH SYSTE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19280" y="1260360"/>
            <a:ext cx="755964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1) wypowiedzenie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tychczasowej umowy </a:t>
            </a:r>
            <a:br>
              <a:rPr sz="2000"/>
            </a:b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 firmą odbierającą odpady – tak aby termin obowiązywania upłynął najpóźniej z dniem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30 czerwca 2013 r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2) złożenie deklaracji o wysokości opłaty za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	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    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	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    gospodarowanie odpadami („samoustalenie” wysokości opłaty śmieciowej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3) wyposażenie nieruchomości w pojemniki do  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	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     zbiórki odpadó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4) segregacja odpadów zgodna z regulaminem utrzymania czystości i porządku w gmi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908000" y="117360"/>
            <a:ext cx="705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19280" y="1041480"/>
            <a:ext cx="71992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) NIEMOŻLIWE, ABY W TAK KRÓTKIM CZASIE SKUTECZNIE WDROŻYĆ DOSKONAŁY SYSTEM (KONIECZNOŚĆ CIĄGŁEGO DOSKONALENIA, POTRZEBA CZASU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2)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 ROBIMY TO PO RAZ PIERWSZY, WIĘC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ĘDZIEMY UCZYĆ SIĘ NA BŁĘDACH, NAPRAWIAĆ I KORYGOWA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  <a:ea typeface="Gill Sans MT;Gill Sans"/>
              </a:rPr>
              <a:t>3) W GMINACH, GDZIE WPROWADZONO OPŁATĘ W WYNIKU REFERENDUM, SYSTEM BYŁ CZĘSTO MODYFIKOWANY, ABY BYŁ JAK NAJBARDZIEJ EFEKTYW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908000" y="115920"/>
            <a:ext cx="705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403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859280" y="539640"/>
            <a:ext cx="4140360" cy="65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zczegółowe informacje na temat  zmian w gospodarce odpadami      komunalny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Arial"/>
                <a:ea typeface="Lucida Sans Unicode"/>
              </a:rPr>
              <a:t>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2"/>
              </a:rPr>
              <a:t>www.bip.um.walbrzych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400" spc="-1" strike="noStrike">
                <a:solidFill>
                  <a:srgbClr val="ff0000"/>
                </a:solidFill>
                <a:latin typeface="Arial"/>
                <a:ea typeface="Lucida Sans Unicode"/>
              </a:rPr>
              <a:t>(„rewolucja śmieciowa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600" spc="-1" strike="noStrike">
                <a:solidFill>
                  <a:srgbClr val="ff0000"/>
                </a:solidFill>
                <a:latin typeface="Arial"/>
                <a:ea typeface="Lucida Sans Unicode"/>
              </a:rPr>
              <a:t>www.rewolucjasmieciowa.walbrzych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3"/>
              </a:rPr>
              <a:t>www.mos.gov.pl</a:t>
            </a:r>
            <a:r>
              <a:rPr b="1" i="1" lang="pl-PL" sz="2000" spc="-1" strike="noStrike">
                <a:solidFill>
                  <a:srgbClr val="ff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400" spc="-1" strike="noStrike">
                <a:solidFill>
                  <a:srgbClr val="ff0000"/>
                </a:solidFill>
                <a:latin typeface="Arial"/>
                <a:ea typeface="Lucida Sans Unicode"/>
              </a:rPr>
              <a:t>(„utrzymanie czystości i porządku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4"/>
              </a:rPr>
              <a:t>www.naszesmieci.mos.gov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027080" y="1730520"/>
            <a:ext cx="7051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800" spc="-1" strike="noStrike">
                <a:solidFill>
                  <a:srgbClr val="ff0000"/>
                </a:solidFill>
                <a:latin typeface="Arial"/>
                <a:ea typeface="Lucida Sans Unicode"/>
              </a:rPr>
              <a:t>Dziękuję za uwagę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7640" y="-213120"/>
            <a:ext cx="65516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br>
              <a:rPr sz="3200"/>
            </a:b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836360" y="178920"/>
            <a:ext cx="7343640" cy="67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16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Źródła reformy gospodarki odpadami komunalnymi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w Polsce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16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Cele „rewolucji” i środki zmierzające do ich realizacj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16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Obecny model gospodarki odpadami komunalnymi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w Wałbrzychu (i w większości gmin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16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Gminny system gospodarki odpadami komunalnymi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po 1 lipca 2013 r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16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Podstawowe obowiązki gmi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16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Zalety nowego systemu gospodarki odpadami                                    komunalnym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16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Obowiązki właścicieli nieruchomości objętych systeme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16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Podsumowani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179280"/>
            <a:ext cx="77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           „</a:t>
            </a: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REWOLUCJA ŚMIECIOW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589040" y="1954080"/>
            <a:ext cx="705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dyrektywa z dnia 19 kwietnia 2008 r. 2008/98/W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w sprawie odpadów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tzw. dyrektywa ramow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dyrektywa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z dnia 16 lipca 1999 r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999/31/W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w sprawie składowania odpadów, tzw. dyrektywa składowiskow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/>
          <p:nvPr/>
        </p:nvSpPr>
        <p:spPr>
          <a:xfrm>
            <a:off x="1979640" y="360360"/>
            <a:ext cx="69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„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IJNE” PRZYCZYNY ZMIAN </a:t>
            </a:r>
            <a:br>
              <a:rPr sz="2400"/>
            </a:b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W GOSPODARCE ODPADAMI KOMUNALNY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0360" y="1440"/>
            <a:ext cx="705168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C E L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7920000" y="5580000"/>
            <a:ext cx="1260360" cy="1278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20720" y="1576440"/>
            <a:ext cx="71992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480" algn="ctr">
              <a:lnSpc>
                <a:spcPct val="100000"/>
              </a:lnSpc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ZYSK    &gt;   SKŁADOWAN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w tym recyk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0000" y="6119640"/>
            <a:ext cx="62100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„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POŁECZEŃSTWO RECYKLING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1114560" y="2519280"/>
            <a:ext cx="5365440" cy="3419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759280" y="2482920"/>
            <a:ext cx="288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480" algn="ctr">
              <a:lnSpc>
                <a:spcPct val="100000"/>
              </a:lnSpc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AJBARDZIEJ POŻĄD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59280" y="5002200"/>
            <a:ext cx="2880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480" algn="ctr">
              <a:lnSpc>
                <a:spcPct val="100000"/>
              </a:lnSpc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AJMNIEJ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ŻĄD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20000" y="3060720"/>
            <a:ext cx="360360" cy="1800360"/>
          </a:xfrm>
          <a:prstGeom prst="upArrow">
            <a:avLst>
              <a:gd name="adj1" fmla="val 50000"/>
              <a:gd name="adj2" fmla="val 124900"/>
            </a:avLst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30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0516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Ś R O D K I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/>
          <p:nvPr/>
        </p:nvSpPr>
        <p:spPr>
          <a:xfrm>
            <a:off x="1190520" y="1525680"/>
            <a:ext cx="801216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1 STYCZNIA 2012 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szła w życ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welizacja ustawy</a:t>
            </a:r>
            <a:br>
              <a:rPr sz="2400"/>
            </a:b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utrzymaniu czystości i porządku w gmin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1 LIPCA 2013 r.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wprowadze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ystemów gospodarki odpadami komunalny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 wszystkich gmin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80000" y="3600360"/>
            <a:ext cx="360360" cy="1440000"/>
          </a:xfrm>
          <a:prstGeom prst="upDownArrow">
            <a:avLst>
              <a:gd name="adj1" fmla="val 50000"/>
              <a:gd name="adj2" fmla="val 79550"/>
            </a:avLst>
          </a:prstGeom>
          <a:solidFill>
            <a:srgbClr val="3deb3d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40360" y="3780000"/>
            <a:ext cx="16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PŁ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59280" y="414036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UM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00720" y="3600360"/>
            <a:ext cx="360360" cy="1440000"/>
          </a:xfrm>
          <a:prstGeom prst="upArrow">
            <a:avLst>
              <a:gd name="adj1" fmla="val 50000"/>
              <a:gd name="adj2" fmla="val 99900"/>
            </a:avLst>
          </a:prstGeom>
          <a:solidFill>
            <a:srgbClr val="23ff2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9280" y="2340000"/>
            <a:ext cx="2340000" cy="3959280"/>
          </a:xfrm>
          <a:prstGeom prst="flowChartAlternateProcess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G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19640" y="2340000"/>
            <a:ext cx="2700360" cy="1079640"/>
          </a:xfrm>
          <a:prstGeom prst="flowChartAlternateProcess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EDSIĘBIOR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BIERAJĄCY ODP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(ZEZWOLEN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00720" y="5219640"/>
            <a:ext cx="2339640" cy="1079640"/>
          </a:xfrm>
          <a:prstGeom prst="flowChartAlternateProcess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ŁAŚCICI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RUCHOM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89040" y="0"/>
            <a:ext cx="70516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  <a:ea typeface="Lucida Sans Unicode"/>
              </a:rPr>
              <a:t>OBECNY MODEL GOSPODARKI ODPADAMI KOMUNALNYMI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  <a:ea typeface="Lucida Sans Unicode"/>
              </a:rPr>
              <a:t>WAŁBRZY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00360" y="2519280"/>
            <a:ext cx="1800360" cy="36003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ADZÓ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20000" y="2879640"/>
            <a:ext cx="2124000" cy="3060720"/>
          </a:xfrm>
          <a:prstGeom prst="wedgeEllipseCallout">
            <a:avLst>
              <a:gd name="adj1" fmla="val -52300"/>
              <a:gd name="adj2" fmla="val 5345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99280" y="3368520"/>
            <a:ext cx="2160720" cy="32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Obowiązk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- selektywna zbiórka odpad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- wyposażenie nieruchomości </a:t>
            </a:r>
            <a:br>
              <a:rPr sz="1400"/>
            </a:b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w pojemnik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- zawarcie um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z przedsiębiorcą (zapłat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80000" y="6300720"/>
            <a:ext cx="1979640" cy="360360"/>
          </a:xfrm>
          <a:prstGeom prst="flowChartManualOperation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łaścicie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dpad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40000" y="1484280"/>
            <a:ext cx="705168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3366"/>
                </a:solidFill>
                <a:latin typeface="Arial"/>
                <a:ea typeface="Lucida Sans Unicode"/>
              </a:rPr>
              <a:t> </a:t>
            </a:r>
            <a:r>
              <a:rPr b="1" i="1" lang="pl-PL" sz="2800" spc="-1" strike="noStrike">
                <a:solidFill>
                  <a:srgbClr val="ff3366"/>
                </a:solidFill>
                <a:latin typeface="Arial"/>
                <a:ea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MINY PRZEJMUJĄ ODPOWIEDZIALNOŚĆ ZA ODPADY KOMUNALNE POWSTAJĄCE NA ICH TER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4000" spc="-1" strike="noStrike">
                <a:solidFill>
                  <a:srgbClr val="ff0000"/>
                </a:solidFill>
                <a:latin typeface="Arial"/>
                <a:ea typeface="Lucida Sans Unicode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BUDOWA I NADZOROWANIE GMINNEGO SYSTEMU GOSPODARKI ODPADAMI KOMUNALNY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800" spc="-1" strike="noStrike">
                <a:solidFill>
                  <a:srgbClr val="ff0000"/>
                </a:solidFill>
                <a:latin typeface="Arial"/>
                <a:ea typeface="Lucida Sans Unicode"/>
              </a:rPr>
              <a:t>(nowe obowiązki + duże nakłady finansow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79640" y="179280"/>
            <a:ext cx="6716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ORMA GOSPODARKI ODPADAMI KOMUNALNY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PROJEKTOWANY SYSTEM GOSPODAROWANIA </a:t>
            </a:r>
            <a:br>
              <a:rPr sz="2400"/>
            </a:b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ODPADAMI KOMUNALNYMI </a:t>
            </a:r>
            <a:br>
              <a:rPr sz="2400"/>
            </a:b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SCHEMAT IDEOW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260360"/>
            <a:ext cx="2340000" cy="900360"/>
          </a:xfrm>
          <a:prstGeom prst="flowChartAlternateProcess">
            <a:avLst/>
          </a:prstGeom>
          <a:solidFill>
            <a:srgbClr val="00b8ff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ŁAŚCICIE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IERUCHOM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280" y="2160720"/>
            <a:ext cx="1619280" cy="2160360"/>
          </a:xfrm>
          <a:prstGeom prst="flowChartAlternateProcess">
            <a:avLst/>
          </a:prstGeom>
          <a:solidFill>
            <a:srgbClr val="00b8ff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G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ADZÓ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O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80000" y="3240000"/>
            <a:ext cx="2700000" cy="1079640"/>
          </a:xfrm>
          <a:prstGeom prst="flowChartAlternateProcess">
            <a:avLst/>
          </a:prstGeom>
          <a:solidFill>
            <a:srgbClr val="00b8ff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ZEDSIĘBIOR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BIERAJĄCY ODP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9640" y="1619280"/>
            <a:ext cx="161928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SimSun"/>
              </a:rPr>
              <a:t>  „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SimSun"/>
              </a:rPr>
              <a:t>opłata śmieciow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19640" y="4500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59280" y="2257560"/>
            <a:ext cx="360360" cy="803160"/>
          </a:xfrm>
          <a:prstGeom prst="downArrow">
            <a:avLst>
              <a:gd name="adj1" fmla="val 50000"/>
              <a:gd name="adj2" fmla="val 55719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19640" y="2519280"/>
            <a:ext cx="1295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SimSun"/>
              </a:rPr>
              <a:t>odp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9800000">
            <a:off x="1793880" y="2266560"/>
            <a:ext cx="2165400" cy="360360"/>
          </a:xfrm>
          <a:prstGeom prst="leftArrow">
            <a:avLst>
              <a:gd name="adj1" fmla="val 50000"/>
              <a:gd name="adj2" fmla="val 150225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79640" y="3780000"/>
            <a:ext cx="1619280" cy="360360"/>
          </a:xfrm>
          <a:prstGeom prst="leftRightArrow">
            <a:avLst>
              <a:gd name="adj1" fmla="val 50000"/>
              <a:gd name="adj2" fmla="val 89454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00360" y="3303720"/>
            <a:ext cx="216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SimSun"/>
              </a:rPr>
              <a:t>przetarg -  umowa,    wynagrodze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59280" y="4859280"/>
            <a:ext cx="2340000" cy="539640"/>
          </a:xfrm>
          <a:prstGeom prst="flowChartProcess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elektywnie zebra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ady komunal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40360" y="5400720"/>
            <a:ext cx="2340000" cy="1260360"/>
          </a:xfrm>
          <a:prstGeom prst="flowChartAlternateProcess">
            <a:avLst/>
          </a:prstGeom>
          <a:solidFill>
            <a:srgbClr val="e6e64c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DOWOL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NSTALAC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ZETWARZ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00360" y="4500720"/>
            <a:ext cx="2519280" cy="900000"/>
          </a:xfrm>
          <a:prstGeom prst="flowChartProcess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mieszane odp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munaln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dpady zielon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zostałości z sortow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5400720"/>
            <a:ext cx="2700360" cy="1260360"/>
          </a:xfrm>
          <a:prstGeom prst="flowChartAlternateProcess">
            <a:avLst/>
          </a:prstGeom>
          <a:solidFill>
            <a:srgbClr val="e6ff00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EGIONAL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NSTALAC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ZETWARZAN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ADÓW KOMUNALN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00720" y="4500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04000" y="1619280"/>
            <a:ext cx="2340000" cy="2879640"/>
          </a:xfrm>
          <a:prstGeom prst="wedgeEllipseCallout">
            <a:avLst>
              <a:gd name="adj1" fmla="val -71750"/>
              <a:gd name="adj2" fmla="val -30041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199280" y="2160720"/>
            <a:ext cx="161928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SimSun"/>
              </a:rPr>
              <a:t>Obowiązk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SimSun"/>
              </a:rPr>
              <a:t>- selektywna zbiórka odpad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SimSun"/>
              </a:rPr>
              <a:t>- wyposażenie nieruchomości </a:t>
            </a:r>
            <a:br>
              <a:rPr sz="1400"/>
            </a:b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SimSun"/>
              </a:rPr>
              <a:t>- w pojemnik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SimSun"/>
              </a:rPr>
              <a:t>- składanie deklaracji („opłata śmieciowa”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9280" y="4319640"/>
            <a:ext cx="1619280" cy="539640"/>
          </a:xfrm>
          <a:prstGeom prst="flowChartManualOperation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łaścici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dpad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9640" y="1440000"/>
            <a:ext cx="93600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14480" algn="ctr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00360" y="1260360"/>
            <a:ext cx="701964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14480">
              <a:lnSpc>
                <a:spcPct val="10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System powinien zapewni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większenie poziomu odzysku, recyklingu, przygotowania do ponownego użycia odpadów surowcowych (papier, plastik, metal, opakowania wielomateriałowe, szkło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ograniczanie masy odpadów ulegających biodegradacji kierowanych do składowan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POWSZECHNIENIE SEGREGACJI </a:t>
            </a:r>
            <a:br>
              <a:rPr sz="2000"/>
            </a:b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„U ŹRÓDŁA</a:t>
            </a:r>
            <a:r>
              <a:rPr b="1" i="1" lang="pl-PL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alizację zasady „zanieczyszczający płaci” - każdy wytwórca odpadów płaci za ich zagospodarowan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prawę stanu środowiska (brak „dzikich wysypisk”, zaniechanie praktyk spalania odpadów w piecach, ograniczanie składowania odpadów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44720" y="179280"/>
            <a:ext cx="6696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14480" algn="ctr">
              <a:lnSpc>
                <a:spcPct val="100000"/>
              </a:lnSpc>
              <a:tabLst>
                <a:tab algn="l" pos="0"/>
                <a:tab algn="l" pos="1144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l-PL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YSTEM GOSPODARKI ODPADAMI KOMUNALNY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6:32:16Z</dcterms:created>
  <dc:creator>PaJaK</dc:creator>
  <dc:description/>
  <dc:language>en-US</dc:language>
  <cp:lastModifiedBy/>
  <cp:lastPrinted>2012-06-02T12:40:12Z</cp:lastPrinted>
  <dcterms:modified xsi:type="dcterms:W3CDTF">2012-10-17T08:24:26Z</dcterms:modified>
  <cp:revision>359</cp:revision>
  <dc:subject/>
  <dc:title>Prezentacja programu PowerPoint</dc:title>
</cp:coreProperties>
</file>