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A33-CFB6-4925-B239-474AD5FE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30C-750F-48A6-AB3C-C8792940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310-7702-48AB-9CF3-05D45484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DD8-14D2-4AC1-90D5-60CD9106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418-A1FD-4A8E-8945-32221B8A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C65-373F-4B2F-B428-1888D78A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8D6-349B-46B0-9DE7-29AABAEE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265-77DC-4E91-A54C-F9ECFD43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18C-4BB3-43CE-BABB-992A68F3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FA6-49D2-4250-810D-B057974F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A16-B808-4530-AC7E-B2FC6226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7C7-8BEC-49B8-AD5D-6BC501E4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9F68-86F3-4A16-A4D4-21C1B6A0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368E-13C9-42AD-8B7E-CC588B20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D201-C3E3-42C3-9F06-CB9780F2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71C6-1F2D-47C4-954A-2F0814A8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8B51-D869-49FA-928F-3972B73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0035-76A1-41AC-B095-499DD5EB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BE9D-4265-464F-99FE-06ED57FF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97EC-0E3F-4964-9B7F-B6E5C710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5301-8961-42E7-B8C0-87370E81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CB12-928D-4546-9DB6-066486F0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683A-01E9-41B6-8895-F3276B98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7D43-16D1-4CAB-B529-CEB5D388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E14A4D-0689-426D-89FD-8BAFED3E6B57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657B43-B8B4-40FA-87E1-3D8CAC6FD08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bip.um.walbrzych.pl/" TargetMode="External"/><Relationship Id="rId3" Type="http://schemas.openxmlformats.org/officeDocument/2006/relationships/hyperlink" Target="http://www.mos.gov.pl/" TargetMode="External"/><Relationship Id="rId4" Type="http://schemas.openxmlformats.org/officeDocument/2006/relationships/hyperlink" Target="http://www.naszesmieci.mos.gov.pl/" TargetMode="External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28680" y="1665360"/>
            <a:ext cx="70516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YSTEM GOSPODARKI ODPADAMI KOMUNALNYMI MIASTA WAŁBRZYCH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LIPCA 2013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racował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a Kazek - Wyrwa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1260360"/>
            <a:ext cx="705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 algn="ctr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ctr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ctr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43280" y="0"/>
            <a:ext cx="705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40000"/>
            <a:ext cx="936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1440000"/>
            <a:ext cx="936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19280" y="1440000"/>
            <a:ext cx="755964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Gmina zapew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biór odpadów komunalnych od właścicieli nieruchomości objętych systemem,                            (tj. z nieruchomości zamieszkałych i „mieszanych”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funkcjonowanie punktów selektywnej zbiórki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odpadów komunalnych,tzw. PSZ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łaściwe zagospodarowanie odpadów            (RIPOK lub IZ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dzór nad przepływem strumienia odpadów             komunaln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formację dotyczącą funkcjonowania system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ff3366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dukację w zakresie prawidłowego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postępowania z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WOWE OBOWIĄZKI GM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66920" y="1619280"/>
            <a:ext cx="763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43280" y="179280"/>
            <a:ext cx="705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LETY NOWEGO SYSTE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0000" y="946080"/>
            <a:ext cx="719928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    </a:t>
            </a:r>
            <a:r>
              <a:rPr b="1" i="1" lang="pl-PL" sz="18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ZALE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biór wszystkich odpadów od właścicieli nieruchomości za tę samą opłatę (tzw. „opłatę śmieciową”), </a:t>
            </a:r>
            <a:r>
              <a:rPr b="1" i="1" lang="pl-PL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wyjątek: niższe opłaty dla osób segregujących odpad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rak konieczności zawierania indywidualnych umów z firmą zajmującą się wywozem odpadów – umowę na odbiór odpadów zawrze gmina z przedsiębiorcą wyłonionym          w drodze przetargu (wyjątek będą stanowiły nieruchomości niezamieszkałe, które nie zostaną objęte systemem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zejrzyste zasady funkcjonowania system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iminacja praktyk nielegalnego pozbywania się odpadów, poprawa stanu środowi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OBOWIĄZKI WŁAŚCICIELI NIERUCHOMOŚ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OBJĘTYCH SYSTE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19280" y="1260360"/>
            <a:ext cx="755964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) wypowiedzenie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tychczasowej umowy </a:t>
            </a:r>
            <a:br>
              <a:rPr sz="2000"/>
            </a:b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 firmą odbierającą odpady – tak aby termin obowiązywania upłynął najpóźniej z dniem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30 czerwca 2013 r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2) złożenie deklaracji o wysokości opłaty za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	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    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	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    gospodarowanie odpadami („samoustalenie” wysokości opłaty śmieciowe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3) wyposażenie nieruchomości w pojemniki do  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	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     zbiórki odpad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4) segregacja odpadów zgodna z regulaminem utrzymania czystości i porządku w gmi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908000" y="11736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19280" y="1041480"/>
            <a:ext cx="71992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) NIEMOŻLIWE, ABY W TAK KRÓTKIM CZASIE SKUTECZNIE WDROŻYĆ DOSKONAŁY SYSTEM (KONIECZNOŚĆ CIĄGŁEGO DOSKONALENIA, POTRZEBA CZAS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)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 ROBIMY TO PO RAZ PIERWSZY, WIĘC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ĘDZIEMY UCZYĆ SIĘ NA BŁĘDACH, NAPRAWIAĆ I KORYGOWA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3) W GMINACH, GDZIE WPROWADZONO OPŁATĘ W WYNIKU REFERENDUM, SYSTEM BYŁ CZĘSTO MODYFIKOWANY, ABY BYŁ JAK NAJBARDZIEJ EFEKT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40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859280" y="539640"/>
            <a:ext cx="4140360" cy="65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zczegółowe informacje na temat  zmian w gospodarce odpadami      komunalny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2"/>
              </a:rPr>
              <a:t>www.bip.um.walbrzych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ff0000"/>
                </a:solidFill>
                <a:latin typeface="Arial"/>
                <a:ea typeface="Lucida Sans Unicode"/>
              </a:rPr>
              <a:t>(„rewolucja śmieciowa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600" spc="-1" strike="noStrike">
                <a:solidFill>
                  <a:srgbClr val="ff0000"/>
                </a:solidFill>
                <a:latin typeface="Arial"/>
                <a:ea typeface="Lucida Sans Unicode"/>
              </a:rPr>
              <a:t>www.rewolucjasmieciowa.walbrzych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3"/>
              </a:rPr>
              <a:t>www.mos.gov.pl</a:t>
            </a:r>
            <a:r>
              <a:rPr b="1" i="1" lang="pl-PL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ff0000"/>
                </a:solidFill>
                <a:latin typeface="Arial"/>
                <a:ea typeface="Lucida Sans Unicode"/>
              </a:rPr>
              <a:t>(„utrzymanie czystości i porządku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4"/>
              </a:rPr>
              <a:t>www.naszesmieci.mos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27080" y="1730520"/>
            <a:ext cx="7051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800" spc="-1" strike="noStrike">
                <a:solidFill>
                  <a:srgbClr val="ff0000"/>
                </a:solidFill>
                <a:latin typeface="Arial"/>
                <a:ea typeface="Lucida Sans Unicode"/>
              </a:rPr>
              <a:t>Dziękuję za uwagę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7640" y="-213120"/>
            <a:ext cx="65516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3200"/>
            </a:b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836360" y="178920"/>
            <a:ext cx="7343640" cy="67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Źródła reformy gospodarki odpadami komunalnymi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w Polsce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Cele „rewolucji” i środki zmierzające do ich realizacj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becny model gospodarki odpadami komunalnymi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w Wałbrzychu (i w większości gmin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Gminny system gospodarki odpadami komunalnymi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o 1 lipca 2013 r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odstawowe obowiązki gm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Zalety nowego systemu gospodarki odpadami                                    komunalny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bowiązki właścicieli nieruchomości objętych system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179280"/>
            <a:ext cx="77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         „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REWOLUCJA ŚMIECIOW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589040" y="1954080"/>
            <a:ext cx="705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dyrektywa z dnia 19 kwietnia 2008 r. 2008/98/W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 sprawie odpadów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zw. dyrektywa ramow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dyrektywa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z dnia 16 lipca 1999 r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999/31/W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 sprawie składowania odpadów, tzw. dyrektywa składowiskow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1979640" y="360360"/>
            <a:ext cx="69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„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IJNE” PRZYCZYNY ZMIAN 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 GOSPODARCE ODPADAMI KOMUNALNY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0360" y="1440"/>
            <a:ext cx="70516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C E L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920000" y="5580000"/>
            <a:ext cx="1260360" cy="127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20720" y="1576440"/>
            <a:ext cx="71992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ZYSK    &gt;   SKŁAD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w tym recyk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6119640"/>
            <a:ext cx="6210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„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POŁECZEŃSTWO RECYKLING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114560" y="2519280"/>
            <a:ext cx="5365440" cy="3419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759280" y="2482920"/>
            <a:ext cx="288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JBARDZIEJ POŻĄD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59280" y="5002200"/>
            <a:ext cx="2880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JMNI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ŻĄD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20000" y="3060720"/>
            <a:ext cx="360360" cy="1800360"/>
          </a:xfrm>
          <a:prstGeom prst="upArrow">
            <a:avLst>
              <a:gd name="adj1" fmla="val 50000"/>
              <a:gd name="adj2" fmla="val 124900"/>
            </a:avLst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3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516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Ś R O D K 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/>
          <p:nvPr/>
        </p:nvSpPr>
        <p:spPr>
          <a:xfrm>
            <a:off x="1190520" y="1525680"/>
            <a:ext cx="801216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1 STYCZNIA 2012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szła w życ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welizacja ustawy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utrzymaniu czystości i porządku w gmin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1 LIPCA 2013 r.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prowadz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ystemów gospodarki odpadami komunalny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 wszystkich gmin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0000" y="3600360"/>
            <a:ext cx="360360" cy="1440000"/>
          </a:xfrm>
          <a:prstGeom prst="upDownArrow">
            <a:avLst>
              <a:gd name="adj1" fmla="val 50000"/>
              <a:gd name="adj2" fmla="val 79550"/>
            </a:avLst>
          </a:prstGeom>
          <a:solidFill>
            <a:srgbClr val="3deb3d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40360" y="3780000"/>
            <a:ext cx="16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PŁ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4140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UM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3600360"/>
            <a:ext cx="360360" cy="1440000"/>
          </a:xfrm>
          <a:prstGeom prst="upArrow">
            <a:avLst>
              <a:gd name="adj1" fmla="val 50000"/>
              <a:gd name="adj2" fmla="val 99900"/>
            </a:avLst>
          </a:prstGeom>
          <a:solidFill>
            <a:srgbClr val="23ff2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2340000"/>
            <a:ext cx="2340000" cy="3959280"/>
          </a:xfrm>
          <a:prstGeom prst="flowChartAlternateProcess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19640" y="2340000"/>
            <a:ext cx="2700360" cy="1079640"/>
          </a:xfrm>
          <a:prstGeom prst="flowChartAlternateProcess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DSIĘBIOR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BIERAJĄCY ODP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ZEZWOLE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00720" y="5219640"/>
            <a:ext cx="2339640" cy="1079640"/>
          </a:xfrm>
          <a:prstGeom prst="flowChartAlternateProcess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ŁAŚCIC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RUCHOM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89040" y="0"/>
            <a:ext cx="70516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Lucida Sans Unicode"/>
              </a:rPr>
              <a:t>OBECNY MODEL GOSPODARKI ODPADAMI KOMUNALNYMI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Lucida Sans Unicode"/>
              </a:rPr>
              <a:t>WAŁBRZ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00360" y="2519280"/>
            <a:ext cx="1800360" cy="36003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DZ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20000" y="2879640"/>
            <a:ext cx="2124000" cy="3060720"/>
          </a:xfrm>
          <a:prstGeom prst="wedgeEllipseCallout">
            <a:avLst>
              <a:gd name="adj1" fmla="val -52300"/>
              <a:gd name="adj2" fmla="val 5345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99280" y="3368520"/>
            <a:ext cx="216072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bowiązk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- selektywna zbiórka odpad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- wyposażenie nieruchomości </a:t>
            </a:r>
            <a:br>
              <a:rPr sz="1400"/>
            </a:b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w pojemnik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- zawarcie um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z przedsiębiorcą (zapłat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0000" y="6300720"/>
            <a:ext cx="1979640" cy="360360"/>
          </a:xfrm>
          <a:prstGeom prst="flowChartManualOperation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łaścicie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dpad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40000" y="1484280"/>
            <a:ext cx="70516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3366"/>
                </a:solidFill>
                <a:latin typeface="Arial"/>
                <a:ea typeface="Lucida Sans Unicode"/>
              </a:rPr>
              <a:t> </a:t>
            </a:r>
            <a:r>
              <a:rPr b="1" i="1" lang="pl-PL" sz="2800" spc="-1" strike="noStrike">
                <a:solidFill>
                  <a:srgbClr val="ff3366"/>
                </a:solidFill>
                <a:latin typeface="Arial"/>
                <a:ea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MINY PRZEJMUJĄ ODPOWIEDZIALNOŚĆ ZA ODPADY KOMUNALNE POWSTAJĄCE NA ICH TER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ff0000"/>
                </a:solidFill>
                <a:latin typeface="Arial"/>
                <a:ea typeface="Lucida Sans Unicode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BUDOWA I NADZOROWANIE GMINNEGO SYSTEMU GOSPODARKI ODPADAMI KOMUNALNY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(nowe obowiązki + duże nakłady finansow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9640" y="179280"/>
            <a:ext cx="6716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ORMA GOSPODARKI ODPADAMI KOMUNALN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ROJEKTOWANY SYSTEM GOSPODAROWANIA </a:t>
            </a:r>
            <a:br>
              <a:rPr sz="2400"/>
            </a:b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DPADAMI KOMUNALNYMI </a:t>
            </a:r>
            <a:br>
              <a:rPr sz="2400"/>
            </a:b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CHEMAT IDE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260360"/>
            <a:ext cx="2340000" cy="900360"/>
          </a:xfrm>
          <a:prstGeom prst="flowChartAlternateProcess">
            <a:avLst/>
          </a:prstGeom>
          <a:solidFill>
            <a:srgbClr val="00b8ff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ŁAŚCICIE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RUCHOM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2160720"/>
            <a:ext cx="1619280" cy="2160360"/>
          </a:xfrm>
          <a:prstGeom prst="flowChartAlternateProcess">
            <a:avLst/>
          </a:prstGeom>
          <a:solidFill>
            <a:srgbClr val="00b8ff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DZ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0" y="3240000"/>
            <a:ext cx="2700000" cy="1079640"/>
          </a:xfrm>
          <a:prstGeom prst="flowChartAlternateProcess">
            <a:avLst/>
          </a:prstGeom>
          <a:solidFill>
            <a:srgbClr val="00b8ff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EDSIĘBIOR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BIERAJĄCY ODP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1619280"/>
            <a:ext cx="1619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SimSun"/>
              </a:rPr>
              <a:t>  „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SimSun"/>
              </a:rPr>
              <a:t>opłata śmieciow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19640" y="4500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2257560"/>
            <a:ext cx="360360" cy="803160"/>
          </a:xfrm>
          <a:prstGeom prst="downArrow">
            <a:avLst>
              <a:gd name="adj1" fmla="val 50000"/>
              <a:gd name="adj2" fmla="val 5571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9640" y="2519280"/>
            <a:ext cx="1295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SimSun"/>
              </a:rPr>
              <a:t>odp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9800000">
            <a:off x="1793880" y="2266560"/>
            <a:ext cx="2165400" cy="360360"/>
          </a:xfrm>
          <a:prstGeom prst="leftArrow">
            <a:avLst>
              <a:gd name="adj1" fmla="val 50000"/>
              <a:gd name="adj2" fmla="val 150225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79640" y="3780000"/>
            <a:ext cx="1619280" cy="360360"/>
          </a:xfrm>
          <a:prstGeom prst="leftRightArrow">
            <a:avLst>
              <a:gd name="adj1" fmla="val 50000"/>
              <a:gd name="adj2" fmla="val 8945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00360" y="3303720"/>
            <a:ext cx="216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SimSun"/>
              </a:rPr>
              <a:t>przetarg -  umowa,    wynagrod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59280" y="4859280"/>
            <a:ext cx="2340000" cy="539640"/>
          </a:xfrm>
          <a:prstGeom prst="flowChartProcess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elektywnie zebra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ady komunal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40360" y="5400720"/>
            <a:ext cx="2340000" cy="1260360"/>
          </a:xfrm>
          <a:prstGeom prst="flowChartAlternateProcess">
            <a:avLst/>
          </a:prstGeom>
          <a:solidFill>
            <a:srgbClr val="e6e64c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WO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STALAC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ETWARZ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00360" y="4500720"/>
            <a:ext cx="2519280" cy="900000"/>
          </a:xfrm>
          <a:prstGeom prst="flowChartProcess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mieszane odp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munal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dpady zielo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ostałości z sort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5400720"/>
            <a:ext cx="2700360" cy="1260360"/>
          </a:xfrm>
          <a:prstGeom prst="flowChartAlternateProcess">
            <a:avLst/>
          </a:prstGeom>
          <a:solidFill>
            <a:srgbClr val="e6ff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GIONAL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STALAC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ETWAR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ADÓW KOMUNA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00720" y="4500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04000" y="1619280"/>
            <a:ext cx="2340000" cy="2879640"/>
          </a:xfrm>
          <a:prstGeom prst="wedgeEllipseCallout">
            <a:avLst>
              <a:gd name="adj1" fmla="val -71750"/>
              <a:gd name="adj2" fmla="val -30041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199280" y="2160720"/>
            <a:ext cx="161928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Obowiązk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- selektywna zbiórka odpad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- wyposażenie nieruchomości </a:t>
            </a:r>
            <a:br>
              <a:rPr sz="1400"/>
            </a:b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- w pojemnik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- składanie deklaracji („opłata śmieciowa”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4319640"/>
            <a:ext cx="1619280" cy="539640"/>
          </a:xfrm>
          <a:prstGeom prst="flowChartManualOperation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łaścici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dpad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9640" y="1440000"/>
            <a:ext cx="936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00360" y="1260360"/>
            <a:ext cx="70196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System powinien zapewni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większenie poziomu odzysku, recyklingu, przygotowania do ponownego użycia odpadów surowcowych (papier, plastik, metal, opakowania wielomateriałowe, szkł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graniczanie masy odpadów ulegających biodegradacji kierowanych do składowan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POWSZECHNIENIE SEGREGACJI </a:t>
            </a:r>
            <a:br>
              <a:rPr sz="2000"/>
            </a:b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„U ŹRÓDŁA</a:t>
            </a: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izację zasady „zanieczyszczający płaci” - każdy wytwórca odpadów płaci za ich zagospodarow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prawę stanu środowiska (brak „dzikich wysypisk”, zaniechanie praktyk spalania odpadów w piecach, ograniczanie składowania odpadó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44720" y="179280"/>
            <a:ext cx="669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YSTEM GOSPODARKI ODPADAMI KOMUNALNY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6:32:16Z</dcterms:created>
  <dc:creator>PaJaK</dc:creator>
  <dc:description/>
  <dc:language>en-US</dc:language>
  <cp:lastModifiedBy/>
  <cp:lastPrinted>2012-06-02T12:40:12Z</cp:lastPrinted>
  <dcterms:modified xsi:type="dcterms:W3CDTF">2012-10-17T08:24:26Z</dcterms:modified>
  <cp:revision>359</cp:revision>
  <dc:subject/>
  <dc:title>Prezentacja programu PowerPoint</dc:title>
</cp:coreProperties>
</file>